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450-6266-4DD4-ADA5-DC0E51DD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EA5-E195-409D-9B03-1918E120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4A6-7DCF-4775-B4BD-9098BF7B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D9B-D54B-431A-A5E2-2D4762BF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FAF-6339-4B8D-9C00-05D3EFEC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DCC-5561-4CC6-A714-D398CCCE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EB1E-AEAC-4DEF-AED6-231D119A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7D23-E77C-4A11-81EA-935CC00A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AC1-84CE-4EEB-8BDD-B75553B2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757-12DD-4446-A13C-B6B64BB8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A55-1DAE-4816-ABD4-FC6AE2F9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5E2-DDAD-4E08-89F8-1F95CD3D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7958-B0E7-4057-A534-DDE682AAB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065" t="30211" r="15704" b="35419"/>
          <a:stretch/>
        </p:blipFill>
        <p:spPr>
          <a:xfrm>
            <a:off x="0" y="1176480"/>
            <a:ext cx="9144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9:00:03Z</dcterms:created>
  <dc:creator>Patrick J. Mooney</dc:creator>
  <dc:description/>
  <dc:language>en-US</dc:language>
  <cp:lastModifiedBy>Patrick J. Mooney</cp:lastModifiedBy>
  <dcterms:modified xsi:type="dcterms:W3CDTF">2010-11-03T19:43:15Z</dcterms:modified>
  <cp:revision>3</cp:revision>
  <dc:subject/>
  <dc:title>Slide 1</dc:title>
</cp:coreProperties>
</file>